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17775"/>
        <c:axId val="20118150"/>
      </c:barChart>
      <c:catAx>
        <c:axId val="14117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18150"/>
        <c:crosses val="autoZero"/>
        <c:auto val="1"/>
        <c:lblAlgn val="ctr"/>
        <c:lblOffset val="100"/>
        <c:noMultiLvlLbl val="0"/>
      </c:catAx>
      <c:valAx>
        <c:axId val="20118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7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F92-B6EC-4E08-87ED-2EB3245F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ED1-621B-4AFA-9C5D-FC0030DF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997-BEF3-4D30-BC0C-57687341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804-71F2-4534-9BED-CA61A4C5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BDB-1CD0-4D94-9E69-CB4A9470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A8F-B8A3-4B3E-ABBE-8405D14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545-4BBB-4190-AA52-3CDBF19C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41E-1190-4DAB-9285-524395C7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5C2-1CC5-4EA6-830F-7FE0C83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0F8-BCB9-4956-8837-EBA6BDAF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921-777A-4515-A8B5-FF3A4EC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063-F063-4E91-B427-A2ACA40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4BD03-7E62-4CCC-8750-CFDD881FFE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