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56760"/>
        <c:axId val="42782701"/>
      </c:barChart>
      <c:catAx>
        <c:axId val="98256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2701"/>
        <c:crosses val="autoZero"/>
        <c:auto val="1"/>
        <c:lblAlgn val="ctr"/>
        <c:lblOffset val="100"/>
        <c:noMultiLvlLbl val="0"/>
      </c:catAx>
      <c:valAx>
        <c:axId val="42782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6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6D7-C431-431C-9243-7B28AAA8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E34-7E61-4920-9969-89C88AAD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7EA-3560-48E6-823E-B2211B34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856-4982-40D3-A9D7-5D9C1CD9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098-1255-4026-BCD3-F7EB156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BC5-EDE1-4CB1-B914-304405C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4CB-5ED3-4800-B1EA-0E85C29C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733-5D4F-4AFB-A7E7-F9AA7AF8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D6A-B2B5-4292-B48C-1172F52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C61-7625-4F24-ADCA-53C12FA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1C5-70E5-4904-8BEE-E8D6A5F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734-B9F6-4A5F-93EE-020D2399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E2F17-A7CC-444F-9E1A-EC053369B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