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4529"/>
        <c:axId val="76165665"/>
      </c:barChart>
      <c:catAx>
        <c:axId val="4694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5665"/>
        <c:crosses val="autoZero"/>
        <c:auto val="1"/>
        <c:lblAlgn val="ctr"/>
        <c:lblOffset val="100"/>
        <c:noMultiLvlLbl val="0"/>
      </c:catAx>
      <c:valAx>
        <c:axId val="76165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EA9-8660-47F8-B29B-0836F115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6AB-3FAD-48FA-9B6B-6484182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48D0-87FB-4537-9E36-6C97E63D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6E3-7739-4429-88F0-105C9335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4FF-17D9-41C7-BF3B-C532455F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808-13B4-4691-92F1-5F41114B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532-1732-4B24-B92A-F189216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2E8-020D-4ED4-ADCF-ADA8D7E3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966-9D90-4A99-AE7E-EB636F9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CD4-41C7-43F7-9BEE-10A98581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5F39-0A0F-4030-8D51-83363248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F14-7355-44CF-A0A6-EB6E150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EABDA-4773-4DD6-819F-016BEA135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