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78269"/>
        <c:axId val="38609657"/>
      </c:barChart>
      <c:catAx>
        <c:axId val="46782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09657"/>
        <c:crosses val="autoZero"/>
        <c:auto val="1"/>
        <c:lblAlgn val="ctr"/>
        <c:lblOffset val="100"/>
        <c:noMultiLvlLbl val="0"/>
      </c:catAx>
      <c:valAx>
        <c:axId val="386096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82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9C7A-9D04-4C12-AA78-5774BB024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25F8-C829-44AB-9386-ECEF50B2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E2CC-849D-437B-B518-FBD018A9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02B6-DCD4-4164-8FDC-18447376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BC27-912B-4A9E-854E-A36243FA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2473-9B11-4D64-903F-BABC4DC1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A69A-0F1B-4A14-8535-039EA0E1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3FFE-9B40-48BB-A262-C3FBE86E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D4BE-CD83-4BC5-987C-2191FB31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4FDB-815F-40B3-8D3C-FB8AAAFD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3454-079E-4005-9809-8928DC2C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54F2-0037-4280-89F7-822585E2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03856-4855-4366-90CC-1BAA625776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