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8160"/>
        <c:axId val="84031440"/>
      </c:barChart>
      <c:catAx>
        <c:axId val="72681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031440"/>
        <c:crosses val="autoZero"/>
        <c:auto val="1"/>
        <c:lblAlgn val="ctr"/>
        <c:lblOffset val="100"/>
        <c:noMultiLvlLbl val="0"/>
      </c:catAx>
      <c:valAx>
        <c:axId val="840314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81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639-3F73-4338-ACB4-4E80C65B2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76716-4861-4B46-8782-BA0833B57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4C67-E3C8-415E-A303-B34A889B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6F2-94E1-4179-868A-A57925C52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0F211-1349-4760-B485-B8CD31D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1327-B77F-4E0A-B66F-4FAC1249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42466-8ADE-4A8B-9B02-ADEF64CF6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8B44-12BB-41A9-874E-759F14B8F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BCDB1-D998-492E-9102-CF9B93258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6550-50E5-4F8F-81D8-7710790D5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DC7F-CA26-4F15-A276-2A6C0092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CCDA-2413-4EA5-AC06-9B8264451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409C20-872B-4EAF-A733-163293A0B8C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