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120931"/>
        <c:axId val="94944984"/>
      </c:barChart>
      <c:catAx>
        <c:axId val="601209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44984"/>
        <c:crosses val="autoZero"/>
        <c:auto val="1"/>
        <c:lblAlgn val="ctr"/>
        <c:lblOffset val="100"/>
        <c:noMultiLvlLbl val="0"/>
      </c:catAx>
      <c:valAx>
        <c:axId val="949449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209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AA1-3E68-490A-B31B-57C9207B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450-2DDC-4D9B-9873-ACC29087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08D-643C-4EED-B2E1-EE06D91B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415-59AA-4E56-B9DA-B9752456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CD31-4B3C-4FA1-9F3A-222AB73F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866-9FD6-4254-9FDB-98460088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1A4E-4229-4EB5-8B88-BAA91EBD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49C-BFA9-4C52-B6FD-78D8933D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8169-F807-4DBA-81ED-ACC8B6FC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558-89B2-4F87-87D7-C7B6D296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367F-0896-41A9-84D6-AA8973CB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5089-FDC0-4295-B98A-D0B0C8BE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43634-ECB8-4E76-BF74-3A1DA60A5B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