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76111"/>
        <c:axId val="38426097"/>
      </c:barChart>
      <c:catAx>
        <c:axId val="61576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26097"/>
        <c:crosses val="autoZero"/>
        <c:auto val="1"/>
        <c:lblAlgn val="ctr"/>
        <c:lblOffset val="100"/>
        <c:noMultiLvlLbl val="0"/>
      </c:catAx>
      <c:valAx>
        <c:axId val="38426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76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50E-1831-49DA-8CC4-F80E70CA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C3C-D7E9-46E7-A286-B2A4F43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988-3E53-4559-9BE3-605DC79F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B71-B1EA-4617-B2FB-9D1811EF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871-0B4B-4F94-84DB-44B55CB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27B-0089-48C5-9240-1141FEA5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AB4-82A0-4DCB-ACA4-7D8E9E4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0BB-CE83-4824-8A31-5CC6A81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237-DCDD-423E-B7D8-B89F3139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C90-95A6-4DE2-8A0B-6309223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30B-7316-4B00-A4E5-EA0EC6C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252-DC4A-45D0-B831-A2E009B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08AB1-6098-4D7F-9E65-9AD634ECE3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