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99413"/>
        <c:axId val="64480744"/>
      </c:barChart>
      <c:catAx>
        <c:axId val="28799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80744"/>
        <c:crosses val="autoZero"/>
        <c:auto val="1"/>
        <c:lblAlgn val="ctr"/>
        <c:lblOffset val="100"/>
        <c:noMultiLvlLbl val="0"/>
      </c:catAx>
      <c:valAx>
        <c:axId val="64480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99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05E-6E9B-4FF7-8D8B-A560CF26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F61-5B77-476B-B0E9-14953DD5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AFA-4733-4D12-B788-5AE46B21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2C0-7E05-45B3-A770-A69EA7CA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5B7-B911-4E97-8EFF-98B872BE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FF3-0330-43B4-9279-63B52E70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C79-32CD-4976-A91B-A1AB800C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484-B180-43ED-9407-E9FFC733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105-0AF4-48CF-9D1C-E5E1970F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810-7F3B-4466-AAFC-72B27B9C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8F5-1BE1-48E8-B0C1-BEA7B855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9BF-6111-4F8B-86B2-BACB4843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C53E9-A9A5-4E0E-9764-C5A3F3E726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