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36347"/>
        <c:axId val="80585442"/>
      </c:barChart>
      <c:catAx>
        <c:axId val="58436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85442"/>
        <c:crosses val="autoZero"/>
        <c:auto val="1"/>
        <c:lblAlgn val="ctr"/>
        <c:lblOffset val="100"/>
        <c:noMultiLvlLbl val="0"/>
      </c:catAx>
      <c:valAx>
        <c:axId val="805854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36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93CC-C959-4FBF-ACDE-D4492D26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806A-1C8D-40FA-BC3B-44701E6B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A1FC-066D-4153-9753-AF979AF8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9F6-B34A-4D88-854E-8664E693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6F74-6CD3-44F8-95BE-A2E31230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9E89-C353-4196-93F3-AA994543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9D9-D331-4B64-9F2F-BEB687A8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B3B-5BDD-47D5-B2A2-F5BD05E6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25E-4C77-4636-AF01-7123DDF4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602-9CDC-457A-A280-FE41F33A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FB85-C0DD-40C6-96B2-758953EF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D155-E07E-4766-A944-EB77C6FB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B9AB7-D9D4-441A-9F39-CCC0011D88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