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297544"/>
        <c:axId val="56461048"/>
      </c:barChart>
      <c:catAx>
        <c:axId val="302975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461048"/>
        <c:crosses val="autoZero"/>
        <c:auto val="1"/>
        <c:lblAlgn val="ctr"/>
        <c:lblOffset val="100"/>
        <c:noMultiLvlLbl val="0"/>
      </c:catAx>
      <c:valAx>
        <c:axId val="564610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2975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2E2E-CFB8-4633-B9F7-C62B4BF60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39EB-879C-4EAF-88BB-40F605E29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4286-99A9-4FF8-8090-39B8BBDDE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DA34-2F82-4ED3-B749-8EA2B0CE4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C257-AA65-46A1-AB7A-19B0E5C9E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FC79-9349-4287-B554-42409F3EF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7B6F-779C-4319-8EAC-2DEC45FB5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06F4-C54A-419F-8D81-B8045BB06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3535-1D82-41A7-B11C-5672139CB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86DD-2A9D-4EEB-9BCE-7959B894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3159-AE47-4569-8D81-0AC41FFC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7C60-65AA-4600-9BC5-0E80C92F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031BF5-19CB-4459-ACB1-6D02480C617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