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889200"/>
        <c:axId val="65581076"/>
      </c:barChart>
      <c:catAx>
        <c:axId val="938892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581076"/>
        <c:crosses val="autoZero"/>
        <c:auto val="1"/>
        <c:lblAlgn val="ctr"/>
        <c:lblOffset val="100"/>
        <c:noMultiLvlLbl val="0"/>
      </c:catAx>
      <c:valAx>
        <c:axId val="655810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8892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BFCF-4755-49EB-B671-9DB28C98F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05F0-B0C0-4BFB-BA2C-62023A1E9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BD22-E2AA-420E-A235-37E22042B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5C75-3D43-42B2-9A5F-B4C33775F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4CCC-4CE3-4D5E-83A8-F8F0224CE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89F3-58F7-4388-A641-9ADDE3EA8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83CD-4385-4852-8940-D573C20EF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B9C3-9117-4B0D-87E4-E55D59812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02E3-CF1F-4996-A530-87E8AE83F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100D-4C9A-4770-A89A-24CB7B1D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3577-7D4F-4AA5-8283-979C97F9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1810-C2DB-47D2-AEF7-AD6CA80E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147A07-FA7D-446A-9F80-B9E9DFEA338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