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6363"/>
        <c:axId val="32444665"/>
      </c:barChart>
      <c:catAx>
        <c:axId val="5926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44665"/>
        <c:crosses val="autoZero"/>
        <c:auto val="1"/>
        <c:lblAlgn val="ctr"/>
        <c:lblOffset val="100"/>
        <c:noMultiLvlLbl val="0"/>
      </c:catAx>
      <c:valAx>
        <c:axId val="32444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72A-9805-4567-9896-9D26FFA9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E23-6E37-4C8E-98EC-FFF7E9E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442-5ADE-4DA7-B49D-6F73F642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ABE-21E8-4810-9240-FDB6F829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C27-D9F3-4E45-AB2F-58961AC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06B-744E-4F07-8328-FAF7E5FC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ABF-ED84-43C7-90D5-401E522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FDF-73F9-4D7B-8F0B-B09A665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588-F11F-4568-9522-29D36B4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B66-5719-4726-8A59-5EE08AC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A0B-2E2D-4CCC-843D-A282B9C9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EA9-A6F9-4EE1-9D9A-583A87F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8ACF4-052E-483B-9D4C-4552817D7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