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3267"/>
        <c:axId val="79984993"/>
      </c:barChart>
      <c:catAx>
        <c:axId val="7953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84993"/>
        <c:crosses val="autoZero"/>
        <c:auto val="1"/>
        <c:lblAlgn val="ctr"/>
        <c:lblOffset val="100"/>
        <c:noMultiLvlLbl val="0"/>
      </c:catAx>
      <c:valAx>
        <c:axId val="79984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018-11DE-4FB9-BDE2-9A73F825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874-C324-46F5-9681-D784089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27F-0D68-4817-83F5-28441512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313-6F5C-4F17-B278-37C01ED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A09-BC30-4743-A5EA-39BBB55E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054-A478-4787-A3B9-10A01058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C03-AAFB-41CA-B278-703D9465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9BD-215E-4B92-82AB-22FE055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B5C-092B-46EC-A902-099B4EB9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2AD-DF14-49E4-B4ED-F0D15DB0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512-6F78-4A7D-A49F-B702D44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145-0C8E-4021-B93F-FB70843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A52E-3DE8-47DE-868B-08E37B8C2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