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09952"/>
        <c:axId val="90789710"/>
      </c:barChart>
      <c:catAx>
        <c:axId val="52509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89710"/>
        <c:crosses val="autoZero"/>
        <c:auto val="1"/>
        <c:lblAlgn val="ctr"/>
        <c:lblOffset val="100"/>
        <c:noMultiLvlLbl val="0"/>
      </c:catAx>
      <c:valAx>
        <c:axId val="90789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09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FA3-6A38-4DE7-B857-6092EC30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CD5-6B6C-4C20-B3B2-4DD41B45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BD4-9272-4F7A-AD8E-2B58B84F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E71-BB43-4B2D-8FD1-1E9A8340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C93-6B3F-4C22-99E7-727D4246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C58-0502-4B7F-A1F1-8939BE66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6CC-DA99-48AA-83DE-5645C9EA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752-A81E-4B4C-AD9B-56F20BB7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EFE-BF99-4612-8A86-9C7585C9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C4E-86F1-45B5-A7DD-F7B239A5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B85-BE65-452C-8EEF-2EA513E8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EF4-B5F6-4A93-A37D-BDB9563C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C7DAC-95BB-426B-936B-E6D3C6F72B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