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817620"/>
        <c:axId val="60267720"/>
      </c:barChart>
      <c:catAx>
        <c:axId val="338176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67720"/>
        <c:crosses val="autoZero"/>
        <c:auto val="1"/>
        <c:lblAlgn val="ctr"/>
        <c:lblOffset val="100"/>
        <c:noMultiLvlLbl val="0"/>
      </c:catAx>
      <c:valAx>
        <c:axId val="60267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176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BF90-158C-4E30-A436-90F1A9E9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DAFF-1B28-4DF0-BC90-3ACD5BB0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D0C-00AF-40A8-8021-7DCB4C87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FA07-31F2-4D07-B4F1-038F8090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DF86-3972-41C6-932F-B8407A37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ADC-2831-4827-85CC-09B9A183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349E-AD9E-48B4-93F8-56E14342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0954-D84E-4BBB-B2DB-8E48EE98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4680-7071-48B4-AF5D-329BD21D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FFE2-C6BC-4119-AF1F-9D2228BC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03E-2654-4C26-9174-5F101EB3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300-68AB-4AB1-B015-5345F5AB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778E0-894E-4A9F-B1CE-539DA2EA0B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