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17727"/>
        <c:axId val="65159997"/>
      </c:barChart>
      <c:catAx>
        <c:axId val="43017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59997"/>
        <c:crosses val="autoZero"/>
        <c:auto val="1"/>
        <c:lblAlgn val="ctr"/>
        <c:lblOffset val="100"/>
        <c:noMultiLvlLbl val="0"/>
      </c:catAx>
      <c:valAx>
        <c:axId val="65159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17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DE1-823A-45FB-8852-E35BF985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0D6-C835-4359-B970-8DEC6E59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1E0-B200-4A65-99CF-797A1FAD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040-1986-48C2-9FAF-F99EED08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584-2965-468D-846A-80189AB1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E97B-C4DA-4161-B566-11595F5F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D35-FC83-47CD-BC19-63027778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742-1BA9-48C1-9457-2568C588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3EF-EA79-4A24-9274-C1EA9658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491-2B04-49A2-92AD-D5FB4FFA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6E7-650D-444A-8B1E-636EE63C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56D-F108-449B-A006-A9A255CA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571A6-DB9F-4906-A410-0559026190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