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57370"/>
        <c:axId val="92896627"/>
      </c:barChart>
      <c:catAx>
        <c:axId val="4345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96627"/>
        <c:crosses val="autoZero"/>
        <c:auto val="1"/>
        <c:lblAlgn val="ctr"/>
        <c:lblOffset val="100"/>
        <c:noMultiLvlLbl val="0"/>
      </c:catAx>
      <c:valAx>
        <c:axId val="92896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5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AF80-927C-43AC-BC3B-CF1942CA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15F-FA42-46A7-9FC5-DD00732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6C1-8944-4ACB-BE96-CA1E47C6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2F8-CBBC-46FE-B38D-32389EE4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853-E322-438C-9AAE-B4D66235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9AD-454A-4487-86E2-87B987C2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31F-9204-4C0A-9D1A-5E012CF4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380-45C2-4747-941A-D397637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D99-1E31-4E08-87E4-C604430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EED-6908-4B9C-B6B1-1B393D3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F03-7BB9-4086-9F27-7DD685D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ECD-D2D8-46E3-A165-C6C350F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8C44-C121-45FE-9477-F064D95FE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