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72164"/>
        <c:axId val="99185208"/>
      </c:barChart>
      <c:catAx>
        <c:axId val="46272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85208"/>
        <c:crosses val="autoZero"/>
        <c:auto val="1"/>
        <c:lblAlgn val="ctr"/>
        <c:lblOffset val="100"/>
        <c:noMultiLvlLbl val="0"/>
      </c:catAx>
      <c:valAx>
        <c:axId val="99185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72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548-FEB7-439B-9911-8C96AFA4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3B4-08A0-4071-A2CE-A548944E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73B1-CBBF-4D26-A36C-7AF1F3A6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C43-98C2-4307-B2F3-CC4C690A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64F-13CE-45AC-BB77-41D63B67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556-2D25-4F6D-8DBE-C9154CF1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D41-8D3D-44F8-92B0-8D322CC7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DAC-9A5C-4996-8E5F-790A3CD4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4CC-B9A3-4192-BCA9-C03AB769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0EE-C839-40EA-9934-DCC8ED59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9A7-4D9C-4174-84EB-85360D17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D04-FF0F-40A3-ACE0-1A723553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F0FD7-975F-4721-8E9F-6B2B904F5F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